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B41-7CF1-476D-8334-25FAEE8C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935-970F-42B6-A78B-9CE191B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F0C-95FA-4475-826E-D124BCE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D10-4B9C-42B7-81DB-32EF49A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63E-1626-4A09-8AB5-BC6C212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FDE-ED0B-4289-9B0F-7D4E44D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F78-3315-40E3-89DA-CEE1BC2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073-3564-43CC-9BBE-ED040EF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737-BD98-4734-A443-9575B78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3ED-6AB4-4AF7-9DDF-D7D2884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8E3-FBF8-4986-B649-20B6322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A73-E288-4577-8078-A4C1B29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FEA-3016-4573-9559-A77003E2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560" y="533160"/>
            <a:ext cx="4267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зия: природное и культурное историческое наследие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(часть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53337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«Гимназия №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. Белгорода – Федорова О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Шанхае, втором по величине городе Китая, расположенном на материке, есть огромный порт. Здесь кипит торговля с внешним миром и процветает индустрия развле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нконгский горизонт все расширяется. Столица торговли и услуг процветает и после присоединения к Ки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48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4419720"/>
            <a:ext cx="3962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нщина народности чжуан осматривает расположенные внизу орошаемые рисовые поля в провинции Гуа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нхай – самый быстроразвивающийся город Китая: за несколько лет на восточном берегу реки Хуанпу вырос совершенно новый жилой и деловой квартал. Строительство нового метро, городских магистралей или нового моста в Пудонге должны спасти Шанхай от транспортных 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82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324480" y="152280"/>
            <a:ext cx="2819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нконг был в торжественной обстановке возвращен Китаю 1 июля 1997 г. Под девизом: «Одна страна – две системы» этому району на ближайшие 50 лет обещаны экономические и политические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326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538440"/>
            <a:ext cx="624852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као, бывшая португальская колония, «китайский Лас-Вегас». С сентября 1999 г. Снова принадлежит государству рабочих и крестьян, и они играют здесь же так же страстно, как и семь миллионов туристов со всего мира, которые стекаются сюда ежегодно. Самое крупное в Макао казино «Лисбоа» представляет собой не только гламурное, но нередко и беспокойное место скопления людей. Из года в год только в этом казино 5 млн человек пытаются быстро разбогат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376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бет: приверженцы тибетского буддизма развесили разноцветные молельные ф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380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тай, Гуйлин: вечерами рыбаки и большие бакланы выходят на рыбную лов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5028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круг памятника Чан Кайши, который напоминает о первом президенте Тайваня, жители Тайбэя делают дыхательную гимнас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7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орец-крепость Потала, бывшая резиденция далай-ламы, на склонах скал Лхасы. 14-й далай-лама с 1959 г. живет в ссылке в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ин из тысяч райских уголков: пальмовое побережье на Мальди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9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лыбающийся Будда в Гьянтзе, третьем по величине городе Тиб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башня высотой 400 м взметнулась в Шанхае над деловым центром в районе Пуд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4266720"/>
            <a:ext cx="3733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уи охранников стоят на страже императорских гробниц в Кэс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3760" y="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ий буддизм, воплотивший в себе многие элементы шаманизма. В Южной Корее  существует не менее 20-ти различных школ и с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265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дион имени Ким Ир Сена в Пхеньяне вмещает 100 000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0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4800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Южная Корея. Неподалеку от небольшого городка Чонджу в национальном парке находится  пещерный храм Соккура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Внутри – гранитная скульптура сидящего Будды высотой 3,4 м. Храм построен из гигантских гранитных блоков, образующих искусственный хол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 японским островом Миядзима  возвышается красное деревянное сооружение – тори – символический доступ к знаменитому синтоистскому храму Ицукуд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66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гаполис в Стране утренней зари – южнокорейская столица Се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олотой павильон 1398 г. и природный сад в древнем императорском городе Ки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дзияма величественно возвышается над озером Кавагучи. Симметрия форм вулкана (3776 м) вдохновляла многих поэтов, художников, архитекторов. Вокруг раскинулась самая большая низменность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50292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 города Кобе при полной луне: красная портовая б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229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44686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орский город Киото – ступени ведут к воротам красивейшего синтоистского святилища Кибун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т, кто достиг вершины Эвереста (Джомолунгма) (8848 м), не может подняться выше на всей Земл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460600"/>
            <a:ext cx="9144000" cy="369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8-миллионной столицы Японии – Токио – большие проблемы с площадями, что приводит к постоянному изменению облика города. Небоскребы и подвесные автодороги отражают эту динам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6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хта Йокогама -  ворота  Японии. В городе самые большие в мире портовые соо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6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ее Токио возвышается Фудзияма, самая высокая гора Японии – 3776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ростные поезда (до 260км/ч) связывают торговые цен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ьянма: королевская барка на озере Инле около Йва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иланд: демонические фигуры перед королевским дворцом Бангкока охраняют находящегося внутри драгоценного «Изумрудного Буд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371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50 м по периметру, 116 м в высоту, покрытая чистым золотом, украшенная 4000 алмазами – грандиозная пагода Шведагон в столице Мьянмы - Янг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228600" y="388584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астыри Королевства Бутан предназначены не только для молитв, они  выполняют  и управленческ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05520" y="3808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ский дворец Нараянхити  Дарбар на центральной площади Катманду – отражение пронизанных религиозностью будней Неп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8120" y="4381560"/>
            <a:ext cx="609588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а Будды смотрят во все четыре стороны света: ступа – буддийское сооружение для хранения реликвий – в архитектурно-скульптурном комплексе Сваямбхунатх в Катманду является одним из самых почитаемых храмовых стро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514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80880" y="2362320"/>
            <a:ext cx="9524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голы – степной народ, живущий кланами. Основой кочевого образа жизни являются животные. Наряду с овцами, быками, яками и козами монголы держат лошадей и верблюдов как ездовых и вьючных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2371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29000" y="3765600"/>
            <a:ext cx="5715000" cy="309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 для моголов-кочевников незаменима как для передвижения, так и для перевозки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4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1920" y="3580920"/>
            <a:ext cx="89917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ая Китайская стена протянулась в общей сложности на 10 000 км. Гигантское сооружение ведет свое начало  от оборонительных вал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. до н.э.  и приобрело свой нынешний вид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46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ьяньтань – «Храм неба» в Пекине. Сюда 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11 г. мог входить лишь император, «сын неба». Сегодня храмовый комплекс и окружающий его парк представляют собой оживленное место  прогулок жителей сто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04T20:32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